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5777-4CE5-4B20-ADFC-DF8D2E98EB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89A8-042C-4863-9435-E094139D48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37E1-0D2E-40D8-BA8B-CA7382B196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3E93-AC23-436E-8D62-FA5AB72581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B3CF-DFA7-4339-A9BA-0D163B6D50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52DD-5155-4FF1-B775-A3A30A62FF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D474-73B5-4206-885F-E32F515176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1FC5-D396-482D-B1A0-C1265861B3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0746-AE54-4BFD-99D4-3314CDDF06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4B73-A685-4D60-A9E2-D05179AF3D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61ED-BF12-4987-B246-BC6B26B51E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2051-685A-4FE1-BBAA-44EA10F51C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8A55-AA2D-465A-AB34-8562251857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56E9-205B-426D-A6EA-8AB5A3B80A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AB90-913F-4966-925A-5C660EC9F3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98D8-E8E1-4F87-BA9E-CCCD737E9F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ECAC-3D40-487C-B78D-929905594C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6733-0693-4800-B01A-794A1C0EB3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3A5A-5132-4134-844B-8A35FB1047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AFF4-3068-4EB2-A42D-BF540D7F1D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F9CC-87E3-4E3A-85C5-F39AC2FDC3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4D81-0B57-4FF2-B2A8-FC5AE7C482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02D0-CCBA-403A-BB68-724F613497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6F00-0A89-4831-A398-B136977FE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5833-33C5-41FD-8C4B-03015E1B06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1D29-D19C-443A-BCA2-0BEEEEE8E4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2318-8E24-46DE-A3A9-6140A60CF7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F3FD-0D65-49E7-81F3-F8FEE4AE06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CA0D-5A88-4E9F-A819-90E2DAE075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EE808-2671-4107-8A77-A4F9E4EB2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2ED45-4D9C-4B36-9A52-CD9D52372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826510-6A7D-4CE6-BE3E-82E7DC3AC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A2B721-80E0-43B0-94B3-9FE96698EB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210E0-9B0E-48A8-9519-FA440B2AF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9CB96-8E7B-48C4-B9A8-B1443BE65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7790B-D637-4475-B3A6-D590DF9F2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C1ED05-0F89-4BAB-840E-F4F475771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E7BBFA-D2F3-4ADF-A162-673C07A75F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1E5D33-51C5-4847-BA16-51A3F384DB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63AE73-0648-4537-A9EA-A8ECFDEF1A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E04C8E-0555-47CE-9A5A-87787D6E63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D4C90-F164-4464-BF28-28F761587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A540BB-5EF8-4682-A8DD-F7F97D7A55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A5466D-5E8F-44AC-82F2-F6E3BAFA4C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0FB699-AA4E-4A21-A6C7-22AAD0F1BA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5CE4DC-158E-4EF0-B9FF-B475C184BC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0D7023-22F4-4BE4-BD6B-0E75BEB41B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D03A48-104D-4111-8EED-93C7EF542C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D26A1E-94B5-4055-9B01-CECC2BF61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4BB07B-BB25-4FFA-80D8-B3601F7C89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30FDDC-9884-4DFB-8F7A-E8F4CCBFDD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6B8BC4-FCCD-4418-8DC4-59ECB73581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47C80-CE09-45D4-B848-27DA04615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D042B3-0116-4269-AD2A-329C3363D0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48212-1170-4558-B897-30012F60C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952C2-3DF7-48C8-A7E1-003F221FC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CCAED-E04C-416E-916A-3CAE446B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E72A8-F134-49F7-A994-5108CF6B8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B577F-72EA-4BF2-8694-F2724C143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91B40-2960-4B78-85A6-709B3FFA5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A57D3-1C59-434B-84F3-A439A609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91A2-1A2D-40B9-B405-5C27EE26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B8D16-C147-486F-85D4-A8F4019AB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8364B-D696-4942-8688-09F733BA1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AAF6D-AD50-4974-9F9B-5A544504F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E4233-8018-4992-82D8-284353515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59844-3A8C-42B6-96A5-F3C09FF89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5F4383-70F9-43CB-A63B-DE4250CC5A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6DBBF-9BDF-4807-8E33-FBCA10406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ED7F5-8FCA-4BE7-9965-DCCC5CB46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93A6D-851C-4074-B2D2-A116FF168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4DEFE-903E-4E68-91E5-8916CBA6C3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FD861-6CE1-4C76-9C5D-629A8A6B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C3775-2C3D-49AA-8EC8-93E96010B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36893-052C-4976-AF9D-7EFA315B8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B7100-3431-4E77-9748-628E1D6E9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D3BAF-AAD2-4D78-BCA3-A00B5B5B9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2C02D-6CEF-46A1-AD16-6C2407CE7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EDB49-81B3-4673-9B77-ADEEDFEA7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87F411-FD6E-4E10-95DE-521773DF1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0ED8A2-C653-4CEE-AEEF-8A82AB4DEC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78811-8DF0-437C-B748-D26B13364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1B84D-E1DA-41DC-8D42-7FEBEA625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B2A0-B26C-488C-A559-AD2C118E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2F355-8396-4569-9BCD-E0CD0BE97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466C9-0578-49AA-AE8D-5FCFC0CC98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F4A1A-EA3B-469D-A56C-C83B1300F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DF3DC-E71B-4BCE-B7B7-6D1A276EF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AFECF-FA4A-4547-9295-17A4AF287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E56BC-31F4-41CA-A835-C896AFEA0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21F09-0E88-4F8D-99D4-1AE9D52EE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E15AFD-9BCC-4FFD-AEAD-FDC2A5CBD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DA61AF-2C1B-4496-8CDF-9929789529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63F034-039E-44ED-B388-8300B2F0E2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9021F-0184-4A98-91B7-0B57C09A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998899-2ED2-4ADB-A7D5-49C224ECA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D1438-2B39-4D87-9D23-67E337BA8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3EE959-4637-45E7-A04D-2AF223FED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00AB2-C3B3-4B97-906E-343AFEEFC4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D1948-FB51-4973-B17D-445EEF360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70FA3-744C-476E-AC7E-F39E710CE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668F2-0430-4028-9B13-FCDE096B4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256AB-5640-4848-8447-BACCC913A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88C16-5FEC-4CF6-9D42-ED1933F25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B91DEF-C2FC-4B3E-B82A-C7272407B5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AEDB6-C256-4E6B-B520-A179BDE6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AAD317-8B08-4515-B5DF-749A0D81BD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2DD0E8-96C0-4EA0-87B4-BCED08AFA1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B75447-9968-44AB-873F-325DA6AA7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F72F27-9101-418E-B7AE-E7B88C893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F44BE-9C26-40C7-85CB-749073A58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67AFB-F437-4F27-BE67-A79F7B953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7D4771-068C-4AC5-9A0A-DBFBEB64F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9072D-89CB-43F2-8B66-AE75F84F08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DF0689-6286-4037-B438-5285F6E04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D5E89-3F50-4EE3-923A-D1443F576A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712A-C153-49F9-BDCB-FF391E2C2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1227E-ACF3-4328-B00A-3D1295490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A33470-7FCF-45A6-B45E-85567DD31B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CF5C3E-0BD0-41D3-A55F-30502B224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3252E2-1F7D-46E4-85E8-54447079E4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238201-45C4-4491-A09A-E906D908E6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E1459-1B57-4D09-8A8A-31C87AF1BB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60A1D-CD29-422A-BA91-DEB6DB6D8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376BD2-7A56-4DD6-9408-A7D44E10C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5BA423-7F8A-4238-9862-6E6CB5B1C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07543-B561-491A-9E72-CB80A48B96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07AE-5A67-44A8-BAB7-98310BF8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AD310-8AAB-4D58-9109-34C2BFEF0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FA350-4FF3-4FAD-8FD0-1F9C5EE68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814B2-66EB-4360-A838-129C54A52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52C0B8-4B2A-4E7E-8081-25FEF9566A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DC1A9D-B8BB-40C2-B152-7126B226CC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C1F2F-21C9-471A-86F0-CA6A1D17D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91C5F-104F-42B8-BDCE-D237DF2CFB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7AC475-3D06-47B7-86CF-AD811CF54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C3538F-3490-47D8-94B8-2CFAD652D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9F539A-A808-4D5F-88D2-6372C35DA6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DC65-E5B9-43FE-B080-3B71D145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EECD1-31D3-4FDB-81AD-6B42240E8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39277-022B-4369-9E04-63F0DF3D3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3AC55-CF68-4C3D-A600-4C5AB6662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C7154-F5BD-4017-AAD6-73AB0A5BB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993F5-39DD-487C-A726-552054CC6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806C3-0C24-4731-8703-734A68E24C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13C0FF-FEB4-4AD5-8925-26995F0E2A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5801D9-9B14-4813-8A05-0233C4BF6B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6630EC-EE2F-496C-AB73-4BC09C6812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89AD91-14AC-4228-9C03-5619C9D1D5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5F28-AD97-4CAB-B5D8-BF0C860062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Donut 10"/>
          <p:cNvGrpSpPr/>
          <p:nvPr/>
        </p:nvGrpSpPr>
        <p:grpSpPr>
          <a:xfrm>
            <a:off x="165240" y="1036800"/>
            <a:ext cx="1170000" cy="1170000"/>
            <a:chOff x="165240" y="1036800"/>
            <a:chExt cx="1170000" cy="1170000"/>
          </a:xfrm>
        </p:grpSpPr>
        <p:pic>
          <p:nvPicPr>
            <p:cNvPr id="417" name="Donut 10" descr=""/>
            <p:cNvPicPr/>
            <p:nvPr/>
          </p:nvPicPr>
          <p:blipFill>
            <a:blip r:embed="rId3"/>
            <a:stretch/>
          </p:blipFill>
          <p:spPr>
            <a:xfrm>
              <a:off x="165240" y="1036800"/>
              <a:ext cx="1170000" cy="1170000"/>
            </a:xfrm>
            <a:prstGeom prst="rect">
              <a:avLst/>
            </a:prstGeom>
            <a:ln w="0">
              <a:noFill/>
            </a:ln>
          </p:spPr>
        </p:pic>
        <p:sp>
          <p:nvSpPr>
            <p:cNvPr id="4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6E0D-84C7-4B3A-88B9-F2A0EE9BCDB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B8B5-81B6-41E2-8AC7-BE9594EB93C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AA9C-9F30-4C1E-8EE6-B8D03F13165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9C3D-5E1D-4AAE-A42B-BA17257156C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AE18-85DD-4605-8E80-4544B958F35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AFA7-5A82-4508-BA65-A56029C3575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B657-B1FD-4BCE-A1E2-C88EC467F84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6CFF-BD1A-4640-AF44-13C524CA79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Donut 10"/>
          <p:cNvGrpSpPr/>
          <p:nvPr/>
        </p:nvGrpSpPr>
        <p:grpSpPr>
          <a:xfrm>
            <a:off x="165240" y="1036800"/>
            <a:ext cx="1170000" cy="1170000"/>
            <a:chOff x="165240" y="1036800"/>
            <a:chExt cx="1170000" cy="1170000"/>
          </a:xfrm>
        </p:grpSpPr>
        <p:pic>
          <p:nvPicPr>
            <p:cNvPr id="369" name="Donut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B99B-654C-4448-A6A1-FAC74FE9D39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28840" y="785520"/>
            <a:ext cx="7407360" cy="22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Data Structures and Algorithms</a:t>
            </a:r>
            <a:br>
              <a:rPr sz="4300"/>
            </a:br>
            <a:endParaRPr b="0" lang="en-US" sz="4300" spc="-1" strike="noStrike">
              <a:solidFill>
                <a:srgbClr val="572314"/>
              </a:solidFill>
              <a:latin typeface="Gill Sans MT"/>
            </a:endParaRPr>
          </a:p>
        </p:txBody>
      </p:sp>
      <p:sp>
        <p:nvSpPr>
          <p:cNvPr id="470" name="PlaceHolder 2"/>
          <p:cNvSpPr>
            <a:spLocks noGrp="1"/>
          </p:cNvSpPr>
          <p:nvPr>
            <p:ph type="subTitle"/>
          </p:nvPr>
        </p:nvSpPr>
        <p:spPr>
          <a:xfrm>
            <a:off x="1499760" y="2857680"/>
            <a:ext cx="6124680" cy="235728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0e04"/>
                </a:solidFill>
                <a:latin typeface="Gill Sans MT"/>
              </a:rPr>
              <a:t>Lecture (Searching)</a:t>
            </a:r>
            <a:endParaRPr b="0" lang="en-US" sz="20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0e04"/>
                </a:solidFill>
                <a:latin typeface="Gill Sans MT"/>
              </a:rPr>
              <a:t>Instructor:   Quratulain </a:t>
            </a:r>
            <a:endParaRPr b="0" lang="en-US" sz="20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20e04"/>
                </a:solidFill>
                <a:latin typeface="Gill Sans MT"/>
              </a:rPr>
              <a:t>Date:  4 and 8 December,  2009</a:t>
            </a:r>
            <a:endParaRPr b="0" lang="en-US" sz="20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20e04"/>
                </a:solidFill>
                <a:latin typeface="Gill Sans MT"/>
              </a:rPr>
              <a:t>Faculty of Computer Science, IBA</a:t>
            </a:r>
            <a:endParaRPr b="0" lang="en-US" sz="28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488" name=""/>
          <p:cNvSpPr txBox="1"/>
          <p:nvPr/>
        </p:nvSpPr>
        <p:spPr>
          <a:xfrm>
            <a:off x="1218960" y="1447560"/>
            <a:ext cx="7715160" cy="480060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shing is function that maps each key to a location in memory. </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nimize the number of comparison to insert a data.</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key’s location does not depend on other elements, and does not change after insertion.</a:t>
            </a:r>
            <a:endParaRPr b="0" lang="en-US" sz="2800" spc="-1" strike="noStrike">
              <a:solidFill>
                <a:srgbClr val="000000"/>
              </a:solidFill>
              <a:latin typeface="Gill Sans MT"/>
            </a:endParaRPr>
          </a:p>
          <a:p>
            <a:pPr lvl="2" marL="850320" indent="-219240">
              <a:lnSpc>
                <a:spcPct val="80000"/>
              </a:lnSpc>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like a sorted list</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good hash function should be easy to compute, minimize hash collision, and uniformly distributed records in table.</a:t>
            </a: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th such a hash function, the dictionary operations can be implemented in O(1) time.</a:t>
            </a:r>
            <a:endParaRPr b="0" lang="en-US" sz="28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490" name=""/>
          <p:cNvSpPr txBox="1"/>
          <p:nvPr/>
        </p:nvSpPr>
        <p:spPr>
          <a:xfrm>
            <a:off x="1066320" y="1447560"/>
            <a:ext cx="7867800" cy="51051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uppose the company has100 inventory record then two digit indices of array will be sufficient.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t if the 100 inventory with 5-digit of code then we have to use 5-digit indices of array but store only 100 records will waste the memory.</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p key values to hash table addresses</a:t>
            </a:r>
            <a:br>
              <a:rPr sz="2400"/>
            </a:br>
            <a:r>
              <a:rPr b="0" lang="en-US" sz="2400" spc="-1" strike="noStrike">
                <a:solidFill>
                  <a:srgbClr val="000000"/>
                </a:solidFill>
                <a:latin typeface="Gill Sans MT"/>
              </a:rPr>
              <a:t>	</a:t>
            </a:r>
            <a:r>
              <a:rPr b="0" lang="en-US" sz="2400" spc="-1" strike="noStrike">
                <a:solidFill>
                  <a:srgbClr val="000000"/>
                </a:solidFill>
                <a:latin typeface="Gill Sans MT"/>
              </a:rPr>
              <a:t> </a:t>
            </a:r>
            <a:r>
              <a:rPr b="0" i="1" lang="en-US" sz="2400" spc="-1" strike="noStrike">
                <a:solidFill>
                  <a:srgbClr val="0000ff"/>
                </a:solidFill>
                <a:latin typeface="Gill Sans MT"/>
              </a:rPr>
              <a:t>keys</a:t>
            </a:r>
            <a:r>
              <a:rPr b="0" lang="en-US" sz="2400" spc="-1" strike="noStrike">
                <a:solidFill>
                  <a:srgbClr val="0000ff"/>
                </a:solidFill>
                <a:latin typeface="Gill Sans MT"/>
              </a:rPr>
              <a:t> -&gt; </a:t>
            </a:r>
            <a:r>
              <a:rPr b="0" i="1" lang="en-US" sz="2400" spc="-1" strike="noStrike">
                <a:solidFill>
                  <a:srgbClr val="0000ff"/>
                </a:solidFill>
                <a:latin typeface="Gill Sans MT"/>
              </a:rPr>
              <a:t>hash table address</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is applies to find, insert, and remov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t>
            </a:r>
            <a:r>
              <a:rPr b="0" i="1" lang="en-US" sz="2400" spc="-1" strike="noStrike">
                <a:solidFill>
                  <a:srgbClr val="0000ff"/>
                </a:solidFill>
                <a:latin typeface="Gill Sans MT"/>
              </a:rPr>
              <a:t>integers</a:t>
            </a:r>
            <a:r>
              <a:rPr b="0" lang="en-US" sz="2400" spc="-1" strike="noStrike">
                <a:solidFill>
                  <a:srgbClr val="0000ff"/>
                </a:solidFill>
                <a:latin typeface="Gill Sans MT"/>
              </a:rPr>
              <a:t> </a:t>
            </a:r>
            <a:r>
              <a:rPr b="1" lang="en-US" sz="2400" spc="-1" strike="noStrike">
                <a:solidFill>
                  <a:srgbClr val="0000ff"/>
                </a:solidFill>
                <a:latin typeface="Gill Sans MT"/>
              </a:rPr>
              <a:t>-&gt; </a:t>
            </a:r>
            <a:r>
              <a:rPr b="0" lang="en-US" sz="2400" spc="-1" strike="noStrike">
                <a:solidFill>
                  <a:srgbClr val="0000ff"/>
                </a:solidFill>
                <a:latin typeface="Gill Sans MT"/>
              </a:rPr>
              <a:t> {0, 1, 2, …, </a:t>
            </a:r>
            <a:r>
              <a:rPr b="0" i="1" lang="en-US" sz="2400" spc="-1" strike="noStrike">
                <a:solidFill>
                  <a:srgbClr val="0000ff"/>
                </a:solidFill>
                <a:latin typeface="Gill Sans MT"/>
              </a:rPr>
              <a:t>Hsize</a:t>
            </a:r>
            <a:r>
              <a:rPr b="0" lang="en-US" sz="2400" spc="-1" strike="noStrike">
                <a:solidFill>
                  <a:srgbClr val="0000ff"/>
                </a:solidFill>
                <a:latin typeface="Gill Sans MT"/>
              </a:rPr>
              <a:t>-1}</a:t>
            </a:r>
            <a:br>
              <a:rPr sz="2400"/>
            </a:br>
            <a:r>
              <a:rPr b="0" lang="en-US" sz="2400" spc="-1" strike="noStrike">
                <a:solidFill>
                  <a:srgbClr val="000000"/>
                </a:solidFill>
                <a:latin typeface="Gill Sans MT"/>
              </a:rPr>
              <a:t>Typical example:   </a:t>
            </a:r>
            <a:r>
              <a:rPr b="0" i="1" lang="en-US" sz="2400" spc="-1" strike="noStrike">
                <a:solidFill>
                  <a:srgbClr val="000000"/>
                </a:solidFill>
                <a:latin typeface="Gill Sans MT"/>
              </a:rPr>
              <a:t>f</a:t>
            </a:r>
            <a:r>
              <a:rPr b="0" lang="en-US" sz="2400" spc="-1" strike="noStrike">
                <a:solidFill>
                  <a:srgbClr val="000000"/>
                </a:solidFill>
                <a:latin typeface="Gill Sans MT"/>
              </a:rPr>
              <a:t>(</a:t>
            </a:r>
            <a:r>
              <a:rPr b="0" i="1" lang="en-US" sz="2400" spc="-1" strike="noStrike">
                <a:solidFill>
                  <a:srgbClr val="000000"/>
                </a:solidFill>
                <a:latin typeface="Gill Sans MT"/>
              </a:rPr>
              <a:t>n</a:t>
            </a:r>
            <a:r>
              <a:rPr b="0" lang="en-US" sz="2400" spc="-1" strike="noStrike">
                <a:solidFill>
                  <a:srgbClr val="000000"/>
                </a:solidFill>
                <a:latin typeface="Gill Sans MT"/>
              </a:rPr>
              <a:t>) = </a:t>
            </a:r>
            <a:r>
              <a:rPr b="0" i="1" lang="en-US" sz="2400" spc="-1" strike="noStrike">
                <a:solidFill>
                  <a:srgbClr val="000000"/>
                </a:solidFill>
                <a:latin typeface="Gill Sans MT"/>
              </a:rPr>
              <a:t>n</a:t>
            </a:r>
            <a:r>
              <a:rPr b="0" lang="en-US" sz="2400" spc="-1" strike="noStrike">
                <a:solidFill>
                  <a:srgbClr val="000000"/>
                </a:solidFill>
                <a:latin typeface="Gill Sans MT"/>
              </a:rPr>
              <a:t> mod </a:t>
            </a:r>
            <a:r>
              <a:rPr b="0" i="1" lang="en-US" sz="2400" spc="-1" strike="noStrike">
                <a:solidFill>
                  <a:srgbClr val="000000"/>
                </a:solidFill>
                <a:latin typeface="Gill Sans MT"/>
              </a:rPr>
              <a:t>Hsiz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n-numeric keys converted to number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For example, strings converted to numbers as</a:t>
            </a:r>
            <a:endParaRPr b="0" lang="en-US" sz="24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um of ASCII values</a:t>
            </a:r>
            <a:endParaRPr b="0" lang="en-US" sz="2400" spc="-1" strike="noStrike">
              <a:solidFill>
                <a:srgbClr val="000000"/>
              </a:solidFill>
              <a:latin typeface="Gill Sans MT"/>
            </a:endParaRPr>
          </a:p>
          <a:p>
            <a:pPr lvl="2" marL="885960" indent="-228600">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three characters</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 collision</a:t>
            </a:r>
            <a:endParaRPr b="0" lang="en-US" sz="43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n h(k1)=h(k2) then two values cannot be place on one location this is called Hash Collision or hash clash</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wo method to deal with clashes.</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hashing (</a:t>
            </a:r>
            <a:r>
              <a:rPr b="0" lang="en-US" sz="1800" spc="-1" strike="noStrike">
                <a:solidFill>
                  <a:srgbClr val="000000"/>
                </a:solidFill>
                <a:latin typeface="Gill Sans MT"/>
              </a:rPr>
              <a:t>use secondary hash function that contunue until new location found) </a:t>
            </a:r>
            <a:endParaRPr b="0" lang="en-US" sz="1800" spc="-1" strike="noStrike">
              <a:solidFill>
                <a:srgbClr val="000000"/>
              </a:solidFill>
              <a:latin typeface="Gill Sans MT"/>
            </a:endParaRPr>
          </a:p>
          <a:p>
            <a:pPr lvl="1" marL="6397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aining ( build a link list of all items with same hash key)</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solve hash clashes using Open Address(Rehashing) </a:t>
            </a:r>
            <a:endParaRPr b="0" lang="en-US" sz="3900" spc="-1" strike="noStrike">
              <a:solidFill>
                <a:srgbClr val="572314"/>
              </a:solidFill>
              <a:latin typeface="Gill Sans MT"/>
            </a:endParaRPr>
          </a:p>
        </p:txBody>
      </p:sp>
      <p:sp>
        <p:nvSpPr>
          <p:cNvPr id="494" name=""/>
          <p:cNvSpPr txBox="1"/>
          <p:nvPr/>
        </p:nvSpPr>
        <p:spPr>
          <a:xfrm>
            <a:off x="1218960" y="1447560"/>
            <a:ext cx="7499160" cy="5181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e simplest method of resolving clashes is to place the record in the next available position in the array which is still open. This technique of rehashing is called linear probing.</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ehash func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h=(h(k) +1 )%m [cover all indic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h=(h(k) +2 )%m [cover only even indic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Loop executes forever to find location if:</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sh table is full, therefore maintain the cou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27432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esolve hash clashes using Open Address </a:t>
            </a:r>
            <a:endParaRPr b="0" lang="en-US" sz="3900" spc="-1" strike="noStrike">
              <a:solidFill>
                <a:srgbClr val="572314"/>
              </a:solidFill>
              <a:latin typeface="Gill Sans MT"/>
            </a:endParaRPr>
          </a:p>
        </p:txBody>
      </p:sp>
      <p:graphicFrame>
        <p:nvGraphicFramePr>
          <p:cNvPr id="496" name=""/>
          <p:cNvGraphicFramePr/>
          <p:nvPr/>
        </p:nvGraphicFramePr>
        <p:xfrm>
          <a:off x="1182600" y="2017800"/>
          <a:ext cx="1560600" cy="4389480"/>
        </p:xfrm>
        <a:graphic>
          <a:graphicData uri="http://schemas.openxmlformats.org/drawingml/2006/table">
            <a:tbl>
              <a:tblPr/>
              <a:tblGrid>
                <a:gridCol w="371520"/>
                <a:gridCol w="446040"/>
                <a:gridCol w="74304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7" name=""/>
          <p:cNvGraphicFramePr/>
          <p:nvPr/>
        </p:nvGraphicFramePr>
        <p:xfrm>
          <a:off x="6172200" y="988920"/>
          <a:ext cx="1066680" cy="5699160"/>
        </p:xfrm>
        <a:graphic>
          <a:graphicData uri="http://schemas.openxmlformats.org/drawingml/2006/table">
            <a:tbl>
              <a:tblPr/>
              <a:tblGrid>
                <a:gridCol w="533520"/>
                <a:gridCol w="533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8" name=""/>
          <p:cNvGraphicFramePr/>
          <p:nvPr/>
        </p:nvGraphicFramePr>
        <p:xfrm>
          <a:off x="7772400" y="981000"/>
          <a:ext cx="1066680" cy="5699160"/>
        </p:xfrm>
        <a:graphic>
          <a:graphicData uri="http://schemas.openxmlformats.org/drawingml/2006/table">
            <a:tbl>
              <a:tblPr/>
              <a:tblGrid>
                <a:gridCol w="533520"/>
                <a:gridCol w="533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a:txBody>
                  <a:tcPr anchor="t" marL="90000" marR="90000">
                    <a:lnL w="13680">
                      <a:solidFill>
                        <a:srgbClr val="8dc765"/>
                      </a:solidFill>
                    </a:lnL>
                    <a:lnR w="13680">
                      <a:solidFill>
                        <a:srgbClr val="8dc765"/>
                      </a:solidFill>
                    </a:lnR>
                    <a:lnT w="13680">
                      <a:solidFill>
                        <a:srgbClr val="8dc765"/>
                      </a:solidFill>
                    </a:lnT>
                    <a:lnB w="13680">
                      <a:solidFill>
                        <a:srgbClr val="8dc765"/>
                      </a:solidFill>
                    </a:lnB>
                    <a:noFill/>
                  </a:tcPr>
                </a:tc>
              </a:tr>
            </a:tbl>
          </a:graphicData>
        </a:graphic>
      </p:graphicFrame>
      <p:sp>
        <p:nvSpPr>
          <p:cNvPr id="499" name="Text Box 113"/>
          <p:cNvSpPr/>
          <p:nvPr/>
        </p:nvSpPr>
        <p:spPr>
          <a:xfrm>
            <a:off x="3048120" y="2133720"/>
            <a:ext cx="28191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k) = k mod 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 betwe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 and 16</a:t>
            </a:r>
            <a:endParaRPr b="0" lang="en-US" sz="2400" spc="-1" strike="noStrike">
              <a:solidFill>
                <a:srgbClr val="000000"/>
              </a:solidFill>
              <a:latin typeface="Arial"/>
            </a:endParaRPr>
          </a:p>
        </p:txBody>
      </p:sp>
      <p:sp>
        <p:nvSpPr>
          <p:cNvPr id="500" name="Text Box 114" hidden="1"/>
          <p:cNvSpPr/>
          <p:nvPr/>
        </p:nvSpPr>
        <p:spPr>
          <a:xfrm>
            <a:off x="3276720" y="373392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ect twelve birthdays from students and hash into the table with chaining</a:t>
            </a:r>
            <a:endParaRPr b="0" lang="en-US" sz="1800" spc="-1" strike="noStrike">
              <a:solidFill>
                <a:srgbClr val="000000"/>
              </a:solidFill>
              <a:latin typeface="Arial"/>
            </a:endParaRPr>
          </a:p>
        </p:txBody>
      </p:sp>
      <p:sp>
        <p:nvSpPr>
          <p:cNvPr id="501" name="AutoShape 171" hidden="1"/>
          <p:cNvSpPr/>
          <p:nvPr/>
        </p:nvSpPr>
        <p:spPr>
          <a:xfrm>
            <a:off x="3200400" y="3429000"/>
            <a:ext cx="2590920" cy="2819520"/>
          </a:xfrm>
          <a:custGeom>
            <a:avLst/>
            <a:gdLst>
              <a:gd name="textAreaLeft" fmla="*/ 126360 w 2590920"/>
              <a:gd name="textAreaRight" fmla="*/ 2464560 w 2590920"/>
              <a:gd name="textAreaTop" fmla="*/ 126360 h 2819520"/>
              <a:gd name="textAreaBottom" fmla="*/ 2693160 h 2819520"/>
            </a:gdLst>
            <a:ahLst/>
            <a:rect l="textAreaLeft" t="textAreaTop" r="textAreaRight" b="textAreaBottom"/>
            <a:pathLst>
              <a:path w="21600" h="23506">
                <a:moveTo>
                  <a:pt x="3600" y="0"/>
                </a:moveTo>
                <a:arcTo wR="3600" hR="3600" stAng="16200000" swAng="-5400000"/>
                <a:lnTo>
                  <a:pt x="0" y="19906"/>
                </a:lnTo>
                <a:arcTo wR="3600" hR="3600" stAng="10800000" swAng="-5400000"/>
                <a:lnTo>
                  <a:pt x="18000" y="23506"/>
                </a:lnTo>
                <a:arcTo wR="3600" hR="3600" stAng="5400000" swAng="-5400000"/>
                <a:lnTo>
                  <a:pt x="21600" y="3600"/>
                </a:lnTo>
                <a:arcTo wR="3600" hR="360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172" hidden="1"/>
          <p:cNvSpPr/>
          <p:nvPr/>
        </p:nvSpPr>
        <p:spPr>
          <a:xfrm>
            <a:off x="3276720" y="3809880"/>
            <a:ext cx="24382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 through examp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hasize the growing reg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5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ood hash function is one minimize the collis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shing allow direct access therefore preferable to other search techniqu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more efficient to initialized hash table with extra spaces to reduce rehash many tim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42640" y="380880"/>
            <a:ext cx="7800840" cy="13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Resolve hash clashes by open addressing</a:t>
            </a:r>
            <a:endParaRPr b="0" lang="en-US" sz="4000" spc="-1" strike="noStrike">
              <a:solidFill>
                <a:srgbClr val="572314"/>
              </a:solidFill>
              <a:latin typeface="Gill Sans MT"/>
            </a:endParaRPr>
          </a:p>
        </p:txBody>
      </p:sp>
      <p:sp>
        <p:nvSpPr>
          <p:cNvPr id="506" name=""/>
          <p:cNvSpPr txBox="1"/>
          <p:nvPr/>
        </p:nvSpPr>
        <p:spPr>
          <a:xfrm>
            <a:off x="1066680" y="2017800"/>
            <a:ext cx="788832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e all elements in tabl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cell is occupied, try another cell.</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near probing, try cells</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k), H(k) + 1 mod m, H(k) + 2 mod m, .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h(i)=(i+2)%17 used to rehash function. Then any key that hashes into an even integer rehashes into successive even integers even then list is empty in odd locations and same with odd integers.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294920" y="30456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Primary Clustering</a:t>
            </a:r>
            <a:endParaRPr b="0" lang="en-US" sz="3900" spc="-1" strike="noStrike">
              <a:solidFill>
                <a:srgbClr val="572314"/>
              </a:solidFill>
              <a:latin typeface="Gill Sans MT"/>
            </a:endParaRPr>
          </a:p>
        </p:txBody>
      </p:sp>
      <p:sp>
        <p:nvSpPr>
          <p:cNvPr id="508" name="PlaceHolder 2"/>
          <p:cNvSpPr>
            <a:spLocks noGrp="1"/>
          </p:cNvSpPr>
          <p:nvPr>
            <p:ph/>
          </p:nvPr>
        </p:nvSpPr>
        <p:spPr>
          <a:xfrm>
            <a:off x="914040" y="1828800"/>
            <a:ext cx="4876920" cy="41148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phenomena, where two keys that hash into different values compete with each other in successive rehashes, is called primary clustering.</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xample:</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y record whose new coming key hashes into 4,5,6,7 will be placed in 7, where as only record whose key hashes into 7 will be placed in that location.</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aphicFrame>
        <p:nvGraphicFramePr>
          <p:cNvPr id="509" name=""/>
          <p:cNvGraphicFramePr/>
          <p:nvPr/>
        </p:nvGraphicFramePr>
        <p:xfrm>
          <a:off x="5791320" y="1676520"/>
          <a:ext cx="493560" cy="3352680"/>
        </p:xfrm>
        <a:graphic>
          <a:graphicData uri="http://schemas.openxmlformats.org/drawingml/2006/table">
            <a:tbl>
              <a:tblPr/>
              <a:tblGrid>
                <a:gridCol w="4935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0" name=""/>
          <p:cNvGraphicFramePr/>
          <p:nvPr/>
        </p:nvGraphicFramePr>
        <p:xfrm>
          <a:off x="6781680" y="1676520"/>
          <a:ext cx="1676520" cy="3352680"/>
        </p:xfrm>
        <a:graphic>
          <a:graphicData uri="http://schemas.openxmlformats.org/drawingml/2006/table">
            <a:tbl>
              <a:tblPr/>
              <a:tblGrid>
                <a:gridCol w="838440"/>
                <a:gridCol w="838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mary Clustering</a:t>
            </a:r>
            <a:endParaRPr b="0" lang="en-US" sz="43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eliminate the primary clustering is to allow the rehash  to depend on the number of time hash function is applied:</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h(i,j), rehash value I if the key is being rehashed for the j tim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g.  rh(i,j)=(i+j)%tablesize</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other approach is to use random number between tablesize to ensure that no two rehashes for same key conflict.</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owever these approaches eliminate primary clustering but not eliminate secondary clustering.</a:t>
            </a:r>
            <a:endParaRPr b="0" lang="en-US" sz="28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Secondary clustering</a:t>
            </a:r>
            <a:endParaRPr b="0" lang="en-US" sz="43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secondary clustering is a phenomena in which different keys that hash to the same value follow the same rehash path.</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o eliminate all clustering, use another phenomena called double hash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Basic search terminologies</a:t>
            </a:r>
            <a:endParaRPr b="0" lang="en-US" sz="4300" spc="-1" strike="noStrike">
              <a:solidFill>
                <a:srgbClr val="572314"/>
              </a:solidFill>
              <a:latin typeface="Gill Sans MT"/>
            </a:endParaRPr>
          </a:p>
        </p:txBody>
      </p:sp>
      <p:sp>
        <p:nvSpPr>
          <p:cNvPr id="472" name=""/>
          <p:cNvSpPr txBox="1"/>
          <p:nvPr/>
        </p:nvSpPr>
        <p:spPr>
          <a:xfrm>
            <a:off x="1218960" y="1447560"/>
            <a:ext cx="7715160" cy="52578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A table or file is a group of elements, called a record.</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ach record is associated with key to differentiate the record.</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Key could be internal or embedded with table.  In other case could be external (outside of table).</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 every record, the unique key is called a primary key.</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A table of records in which a key is used for retrieval is often called a search table or dictionary.</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ouble hashing</a:t>
            </a:r>
            <a:endParaRPr b="0" lang="en-US" sz="43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volve the use of two hash function</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1(key) and h2(key)</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1 is the primary key function then If the position is occupied then rh(i,key)=(i+h2(key))%tablesize until empty loc is fou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rehash function use original key with hash value</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s long as h2(key1) does not equal h2(key2), records do not compete for the same set of location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Analysis</a:t>
            </a:r>
            <a:endParaRPr b="0" lang="en-US" sz="4300" spc="-1" strike="noStrike">
              <a:solidFill>
                <a:srgbClr val="572314"/>
              </a:solidFill>
              <a:latin typeface="Gill Sans MT"/>
            </a:endParaRPr>
          </a:p>
        </p:txBody>
      </p:sp>
      <p:sp>
        <p:nvSpPr>
          <p:cNvPr id="518"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efficiency of hashing method is measured by the average number of table position that must be examined in searching for a particular item.</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et n be the number of item currently in hash table and table size be the number of positions in table then for large table it has been proved that average number of probes required for successful search.</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Analysis</a:t>
            </a:r>
            <a:endParaRPr b="0" lang="en-US" sz="4300" spc="-1" strike="noStrike">
              <a:solidFill>
                <a:srgbClr val="572314"/>
              </a:solidFill>
              <a:latin typeface="Gill Sans MT"/>
            </a:endParaRPr>
          </a:p>
        </p:txBody>
      </p:sp>
      <p:sp>
        <p:nvSpPr>
          <p:cNvPr id="520" name=""/>
          <p:cNvSpPr txBox="1"/>
          <p:nvPr/>
        </p:nvSpPr>
        <p:spPr>
          <a:xfrm>
            <a:off x="1218960" y="1447560"/>
            <a:ext cx="7715160" cy="510516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e load factor x is defined as the ratio between occupied slots and table size.</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x=(n-1)/tablesize</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f the fraction of location that is occupied is equal to the load factor x, we can approximate the number of probe (checks) for successful search under linear rehashing.</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When the load factor is reaches to the tablesize (table is 80% full) then create a hashtable of double size to minimize rehashing.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alysis </a:t>
            </a:r>
            <a:endParaRPr b="0" lang="en-US" sz="4300" spc="-1" strike="noStrike">
              <a:solidFill>
                <a:srgbClr val="572314"/>
              </a:solidFill>
              <a:latin typeface="Gill Sans MT"/>
            </a:endParaRPr>
          </a:p>
        </p:txBody>
      </p:sp>
      <p:sp>
        <p:nvSpPr>
          <p:cNvPr id="522" name=""/>
          <p:cNvSpPr txBox="1"/>
          <p:nvPr/>
        </p:nvSpPr>
        <p:spPr>
          <a:xfrm>
            <a:off x="1142640" y="1447560"/>
            <a:ext cx="7791480" cy="51814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orst-case: All keys hash to the same bucket. Insert takes O(1), but delete and find take O(N).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linear probing max Load factor &lt;=1</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erformance of the hash tables, based on open addressing scheme is very sensitive to the table's load factor. If load factor exceeds 0.7 threshold, table's speed drastically degrades. Indeed, length of probe sequence is proportional to (loadFactor) / (1 - loadFactor) value. In extreme case, when loadFactor approaches 1, length of the sequence approaches infinity. In practice it means, that there are no more free slots in the table and algorithm will never find place to insert a new element. Hence, this kind of hash tables should support dynamic resizing in order to be efficien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ining</a:t>
            </a:r>
            <a:endParaRPr b="0" lang="en-US" sz="4300" spc="-1" strike="noStrike">
              <a:solidFill>
                <a:srgbClr val="572314"/>
              </a:solidFill>
              <a:latin typeface="Gill Sans MT"/>
            </a:endParaRPr>
          </a:p>
        </p:txBody>
      </p:sp>
      <p:sp>
        <p:nvSpPr>
          <p:cNvPr id="524" name=""/>
          <p:cNvSpPr txBox="1"/>
          <p:nvPr/>
        </p:nvSpPr>
        <p:spPr>
          <a:xfrm>
            <a:off x="914400" y="1447920"/>
            <a:ext cx="5867280" cy="49528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ne simple scheme is to chain all collisions in lists attached to the appropriate slot. </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is allows an unlimited number of collisions to be handled and doesn't require </a:t>
            </a:r>
            <a:r>
              <a:rPr b="0" i="1" lang="en-GB" sz="2800" spc="-1" strike="noStrike">
                <a:solidFill>
                  <a:srgbClr val="000000"/>
                </a:solidFill>
                <a:latin typeface="Gill Sans MT"/>
              </a:rPr>
              <a:t>a priori</a:t>
            </a:r>
            <a:r>
              <a:rPr b="0" lang="en-GB" sz="2800" spc="-1" strike="noStrike">
                <a:solidFill>
                  <a:srgbClr val="000000"/>
                </a:solidFill>
                <a:latin typeface="Gill Sans MT"/>
              </a:rPr>
              <a:t> knowledge of how many elements are contained in the collection. </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he trade off is the same as with linked lists versus array implementations of collections</a:t>
            </a:r>
            <a:endParaRPr b="0" lang="en-US" sz="2800" spc="-1" strike="noStrike">
              <a:solidFill>
                <a:srgbClr val="000000"/>
              </a:solidFill>
              <a:latin typeface="Gill Sans MT"/>
            </a:endParaRPr>
          </a:p>
        </p:txBody>
      </p:sp>
      <p:pic>
        <p:nvPicPr>
          <p:cNvPr id="525" name="Picture 2" descr=""/>
          <p:cNvPicPr/>
          <p:nvPr/>
        </p:nvPicPr>
        <p:blipFill>
          <a:blip r:embed="rId1"/>
          <a:stretch/>
        </p:blipFill>
        <p:spPr>
          <a:xfrm>
            <a:off x="6905520" y="1523880"/>
            <a:ext cx="2238480" cy="245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ining </a:t>
            </a:r>
            <a:endParaRPr b="0" lang="en-US" sz="4300" spc="-1" strike="noStrike">
              <a:solidFill>
                <a:srgbClr val="572314"/>
              </a:solidFill>
              <a:latin typeface="Gill Sans MT"/>
            </a:endParaRPr>
          </a:p>
        </p:txBody>
      </p:sp>
      <p:sp>
        <p:nvSpPr>
          <p:cNvPr id="527" name=""/>
          <p:cNvSpPr txBox="1"/>
          <p:nvPr/>
        </p:nvSpPr>
        <p:spPr>
          <a:xfrm>
            <a:off x="1066320" y="1447560"/>
            <a:ext cx="5791320" cy="4343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 worst case, all keys map to same index.</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od hash function should uniformly distributes keys in all indic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oad factor x=n/tablesize. Where n is number of slots occupie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x is load factor then O(1+x), where x proportion of comparison need to search in linklist or array list which is refer by an index.</a:t>
            </a:r>
            <a:endParaRPr b="0" lang="en-US" sz="2400" spc="-1" strike="noStrike">
              <a:solidFill>
                <a:srgbClr val="000000"/>
              </a:solidFill>
              <a:latin typeface="Gill Sans MT"/>
            </a:endParaRPr>
          </a:p>
        </p:txBody>
      </p:sp>
      <p:pic>
        <p:nvPicPr>
          <p:cNvPr id="528" name="Picture 2" descr=""/>
          <p:cNvPicPr/>
          <p:nvPr/>
        </p:nvPicPr>
        <p:blipFill>
          <a:blip r:embed="rId1"/>
          <a:stretch/>
        </p:blipFill>
        <p:spPr>
          <a:xfrm>
            <a:off x="6905520" y="1523880"/>
            <a:ext cx="223848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Analysis</a:t>
            </a:r>
            <a:endParaRPr b="0" lang="en-US" sz="43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chaining load factor n/m</a:t>
            </a:r>
            <a:endParaRPr b="0" lang="en-US" sz="3200" spc="-1" strike="noStrike">
              <a:solidFill>
                <a:srgbClr val="000000"/>
              </a:solidFill>
              <a:latin typeface="Gill Sans MT"/>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orst-case: All keys hash to the same bucket. Insert takes O(1), but delete and find take O(N). </a:t>
            </a:r>
            <a:endParaRPr b="0" lang="en-US" sz="3200" spc="-1" strike="noStrike">
              <a:solidFill>
                <a:srgbClr val="000000"/>
              </a:solidFill>
              <a:latin typeface="Gill Sans MT"/>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ining Average Case: </a:t>
            </a:r>
            <a:endParaRPr b="0" lang="en-US" sz="3200" spc="-1" strike="noStrike">
              <a:solidFill>
                <a:srgbClr val="000000"/>
              </a:solidFill>
              <a:latin typeface="Gill Sans MT"/>
            </a:endParaRPr>
          </a:p>
          <a:p>
            <a:pPr lvl="1" marL="626760" indent="-2314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keys are uniformly distributed, then all buckets are about the same size. </a:t>
            </a:r>
            <a:endParaRPr b="0" lang="en-US" sz="2800" spc="-1" strike="noStrike">
              <a:solidFill>
                <a:srgbClr val="000000"/>
              </a:solidFill>
              <a:latin typeface="Gill Sans MT"/>
            </a:endParaRPr>
          </a:p>
          <a:p>
            <a:pPr lvl="1" marL="626760" indent="-2314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ach linked list has expected size O(N/M). Thus, insert is still O(1), but delete and find become O(N/M). N/M is called the load factor. </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haining Vs Open addressing</a:t>
            </a:r>
            <a:endParaRPr b="0" lang="en-US" sz="4300" spc="-1" strike="noStrike">
              <a:solidFill>
                <a:srgbClr val="572314"/>
              </a:solidFill>
              <a:latin typeface="Gill Sans MT"/>
            </a:endParaRPr>
          </a:p>
        </p:txBody>
      </p:sp>
      <p:graphicFrame>
        <p:nvGraphicFramePr>
          <p:cNvPr id="532" name=""/>
          <p:cNvGraphicFramePr/>
          <p:nvPr/>
        </p:nvGraphicFramePr>
        <p:xfrm>
          <a:off x="2133720" y="1447920"/>
          <a:ext cx="5867280" cy="4800600"/>
        </p:xfrm>
        <a:graphic>
          <a:graphicData uri="http://schemas.openxmlformats.org/drawingml/2006/table">
            <a:tbl>
              <a:tblPr/>
              <a:tblGrid>
                <a:gridCol w="1955520"/>
                <a:gridCol w="1955880"/>
                <a:gridCol w="1955880"/>
              </a:tblGrid>
              <a:tr h="23328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 </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Chaining</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Open addressing</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40464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Collision resolution</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sing external data structur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sing hash table itself</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75096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Memory wast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Pointer size overhead per entry (storing list heads in the tabl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No overhead </a:t>
                      </a:r>
                      <a:r>
                        <a:rPr b="0" lang="en-GB" sz="1100" spc="-1" strike="noStrike" baseline="30000">
                          <a:solidFill>
                            <a:srgbClr val="000000"/>
                          </a:solidFill>
                          <a:latin typeface="Gill Sans MT"/>
                        </a:rPr>
                        <a:t>1</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57960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Performance dependence on table's load factor</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Directly proportional</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Proportional to (loadFactor) / (1 - loadFactor)</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75096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Allow to store more items, than hash table siz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Ye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No. Moreover, it's recommended to keep table's load factor below 0.7</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57780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Hash function requirement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niform distribution</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Uniform distribution, should avoid clustering</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57924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Handle removal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Removals are ok</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Removals clog the hash table with "DELETED" entries</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r h="924120">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Gill Sans MT"/>
                        </a:rPr>
                        <a:t>Implementation</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Simple</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c>
                  <a:txBody>
                    <a:bodyPr lIns="29880" rIns="2988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Gill Sans MT"/>
                        </a:rPr>
                        <a:t>Correct implementation of open addressing based hash table is quite tricky</a:t>
                      </a:r>
                      <a:endParaRPr b="0" lang="en-US" sz="1100" spc="-1" strike="noStrike">
                        <a:solidFill>
                          <a:srgbClr val="000000"/>
                        </a:solidFill>
                        <a:latin typeface="Arial"/>
                      </a:endParaRPr>
                    </a:p>
                  </a:txBody>
                  <a:tcPr anchor="ctr" marL="29880" marR="29880">
                    <a:lnL>
                      <a:noFill/>
                    </a:lnL>
                    <a:lnR>
                      <a:noFill/>
                    </a:lnR>
                    <a:lnT>
                      <a:noFill/>
                    </a:lnT>
                    <a:lnB>
                      <a:noFill/>
                    </a:lnB>
                    <a:solidFill>
                      <a:srgbClr val="999999"/>
                    </a:solidFill>
                  </a:tcPr>
                </a:tc>
              </a:tr>
            </a:tbl>
          </a:graphicData>
        </a:graphic>
      </p:graphicFrame>
      <p:sp>
        <p:nvSpPr>
          <p:cNvPr id="533" name="Rectangle 1"/>
          <p:cNvSpPr/>
          <p:nvPr/>
        </p:nvSpPr>
        <p:spPr>
          <a:xfrm>
            <a:off x="4481640" y="-16200"/>
            <a:ext cx="18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Hash Maps</a:t>
            </a:r>
            <a:endParaRPr b="0" lang="en-US" sz="4300" spc="-1" strike="noStrike">
              <a:solidFill>
                <a:srgbClr val="572314"/>
              </a:solidFill>
              <a:latin typeface="Gill Sans MT"/>
            </a:endParaRPr>
          </a:p>
        </p:txBody>
      </p:sp>
      <p:sp>
        <p:nvSpPr>
          <p:cNvPr id="5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A map data structure stores </a:t>
            </a:r>
            <a:r>
              <a:rPr b="0" i="1" lang="en-GB" sz="2800" spc="-1" strike="noStrike">
                <a:solidFill>
                  <a:srgbClr val="000000"/>
                </a:solidFill>
                <a:latin typeface="Gill Sans MT"/>
              </a:rPr>
              <a:t>(key, value) pairs. Values are retrieved by searching for the </a:t>
            </a:r>
            <a:r>
              <a:rPr b="0" lang="en-GB" sz="2800" spc="-1" strike="noStrike">
                <a:solidFill>
                  <a:srgbClr val="000000"/>
                </a:solidFill>
                <a:latin typeface="Gill Sans MT"/>
              </a:rPr>
              <a:t>appropriate key. Maps are also sometimes called </a:t>
            </a:r>
            <a:r>
              <a:rPr b="1" lang="en-GB" sz="2800" spc="-1" strike="noStrike">
                <a:solidFill>
                  <a:srgbClr val="000000"/>
                </a:solidFill>
                <a:latin typeface="Gill Sans MT"/>
              </a:rPr>
              <a:t>dictionaries or associative array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aps can be implemented in a number of ways. One of the most common ways is to store the (key, value) pairs in a hash table. This is called a hash map.</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Basic search terminologies</a:t>
            </a:r>
            <a:endParaRPr b="0" lang="en-US" sz="4300" spc="-1" strike="noStrike">
              <a:solidFill>
                <a:srgbClr val="572314"/>
              </a:solidFill>
              <a:latin typeface="Gill Sans MT"/>
            </a:endParaRPr>
          </a:p>
        </p:txBody>
      </p:sp>
      <p:sp>
        <p:nvSpPr>
          <p:cNvPr id="4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 table is organized with specific search techniqu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table may be contained completely in memory, completely in auxiliary storage or it may be divided between the two.</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n this course we will concentrate on internal search (completely in memor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Dictionary as an Abstract Data Type</a:t>
            </a:r>
            <a:endParaRPr b="0" lang="en-US" sz="3900" spc="-1" strike="noStrike">
              <a:solidFill>
                <a:srgbClr val="572314"/>
              </a:solidFill>
              <a:latin typeface="Gill Sans MT"/>
            </a:endParaRPr>
          </a:p>
        </p:txBody>
      </p:sp>
      <p:sp>
        <p:nvSpPr>
          <p:cNvPr id="476" name=""/>
          <p:cNvSpPr txBox="1"/>
          <p:nvPr/>
        </p:nvSpPr>
        <p:spPr>
          <a:xfrm>
            <a:off x="1066320" y="1447560"/>
            <a:ext cx="7867800" cy="51814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dictionary is an ordered or unordered list of key-element pairs, where keys are used to locate elements in the list. </a:t>
            </a:r>
            <a:endParaRPr b="0" lang="en-US" sz="24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Exampl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sider a data structure that stores Student information;  it can be viewed as a dictionary, where Student ID serve as keys for identification of Student objects. </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eration on Dictionary</a:t>
            </a: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ze(), empty(), finditem(key), removeitem(), insertitem(key, element)</a:t>
            </a: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te  </a:t>
            </a:r>
            <a:r>
              <a:rPr b="0" lang="en-US" sz="2300" spc="-1" strike="noStrike">
                <a:solidFill>
                  <a:srgbClr val="000000"/>
                </a:solidFill>
                <a:latin typeface="Gill Sans MT"/>
              </a:rPr>
              <a:t>Java has a built-in abstract class </a:t>
            </a:r>
            <a:r>
              <a:rPr b="1" lang="en-US" sz="2300" spc="-1" strike="noStrike">
                <a:solidFill>
                  <a:srgbClr val="000000"/>
                </a:solidFill>
                <a:latin typeface="Gill Sans MT"/>
              </a:rPr>
              <a:t>java.util.Dictionary</a:t>
            </a:r>
            <a:endParaRPr b="0" lang="en-US" sz="23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4264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Search Techniques for Dictionary ADT</a:t>
            </a:r>
            <a:endParaRPr b="0" lang="en-US" sz="3900" spc="-1" strike="noStrike">
              <a:solidFill>
                <a:srgbClr val="572314"/>
              </a:solidFill>
              <a:latin typeface="Gill Sans MT"/>
            </a:endParaRPr>
          </a:p>
        </p:txBody>
      </p:sp>
      <p:sp>
        <p:nvSpPr>
          <p:cNvPr id="478"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Sequential search</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xed sequential search (book handout)</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nary Search</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ashing</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ees searching</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nary search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ultiway search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VL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 black trees</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Sequential Search</a:t>
            </a:r>
            <a:endParaRPr b="0" lang="en-US" sz="43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implest form of search algorithm for dictionary, implemented either in array or linklis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lgorithm examine each key; upon finding one that matches the search argument, its index or value is return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n worst case, number of comparison are 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Indexed Sequential Search</a:t>
            </a:r>
            <a:endParaRPr b="0" lang="en-US" sz="4300" spc="-1" strike="noStrike">
              <a:solidFill>
                <a:srgbClr val="572314"/>
              </a:solidFill>
              <a:latin typeface="Gill Sans MT"/>
            </a:endParaRPr>
          </a:p>
        </p:txBody>
      </p:sp>
      <p:sp>
        <p:nvSpPr>
          <p:cNvPr id="482" name=""/>
          <p:cNvSpPr txBox="1"/>
          <p:nvPr/>
        </p:nvSpPr>
        <p:spPr>
          <a:xfrm>
            <a:off x="1447560" y="15998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is technique increase the search efficiency for a sorted file but need more space to store index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se indexes can be applicable to both arrays and linklis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Binary Search</a:t>
            </a:r>
            <a:endParaRPr b="0" lang="en-US" sz="4300" spc="-1" strike="noStrike">
              <a:solidFill>
                <a:srgbClr val="572314"/>
              </a:solidFill>
              <a:latin typeface="Gill Sans MT"/>
            </a:endParaRPr>
          </a:p>
        </p:txBody>
      </p:sp>
      <p:sp>
        <p:nvSpPr>
          <p:cNvPr id="4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ost efficient search techniqu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se sorted arra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annot implement using linklis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worst case complexity is O(log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Hashing</a:t>
            </a:r>
            <a:endParaRPr b="0" lang="en-US" sz="4300" spc="-1" strike="noStrike">
              <a:solidFill>
                <a:srgbClr val="572314"/>
              </a:solidFill>
              <a:latin typeface="Gill Sans MT"/>
            </a:endParaRPr>
          </a:p>
        </p:txBody>
      </p:sp>
      <p:sp>
        <p:nvSpPr>
          <p:cNvPr id="486" name=""/>
          <p:cNvSpPr txBox="1"/>
          <p:nvPr/>
        </p:nvSpPr>
        <p:spPr>
          <a:xfrm>
            <a:off x="1142640" y="1447920"/>
            <a:ext cx="7791480" cy="495288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shing is a method for directly referencing an element in a table by performing arithmetic transformations on keys into table addresses. This is carried out in two steps:</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MT"/>
              </a:rPr>
              <a:t>Step 1</a:t>
            </a:r>
            <a:r>
              <a:rPr b="0" lang="en-US" sz="2800" spc="-1" strike="noStrike">
                <a:solidFill>
                  <a:srgbClr val="000000"/>
                </a:solidFill>
                <a:latin typeface="Gill Sans MT"/>
              </a:rPr>
              <a:t>: Computing the so-called hash function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H: K -&gt; A.</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MT"/>
              </a:rPr>
              <a:t>Step 2</a:t>
            </a:r>
            <a:r>
              <a:rPr b="0" lang="en-US" sz="2800" spc="-1" strike="noStrike">
                <a:solidFill>
                  <a:srgbClr val="000000"/>
                </a:solidFill>
                <a:latin typeface="Gill Sans MT"/>
              </a:rPr>
              <a:t>: Collision resolution, which handles cases where two or more different keys hash to the same table addres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1:21:00Z</dcterms:created>
  <dc:creator>Imran</dc:creator>
  <dc:description/>
  <dc:language>en-US</dc:language>
  <cp:lastModifiedBy>qrajput</cp:lastModifiedBy>
  <dcterms:modified xsi:type="dcterms:W3CDTF">2009-12-15T09:09:06Z</dcterms:modified>
  <cp:revision>54</cp:revision>
  <dc:subject/>
  <dc:title>Hashing</dc:title>
</cp:coreProperties>
</file>